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C96-BC2C-438A-846D-A91B72C4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88E-CC07-4F05-B78B-55C75FFC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4A0-4605-4DBE-8A62-55D43606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B3C-C1A6-4C76-A504-67C28C85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147-5784-40AC-96F4-CC4F0174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4F8-776D-4253-973C-D9D2B4CC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B2D-598A-4123-B83B-F79AB457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F52-FEE9-4B50-A7BA-3E475662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135-5756-4B16-B300-EA4D62F1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6D1-05C6-415F-8BBC-36616C7F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CE9-EC21-4770-8CBC-FC67BEDB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152-B220-4F76-934B-2327F1DD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9AA9-871A-4088-B622-E0448042EE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494172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4"/>
          <p:cNvSpPr/>
          <p:nvPr/>
        </p:nvSpPr>
        <p:spPr>
          <a:xfrm>
            <a:off x="762120" y="380880"/>
            <a:ext cx="7986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6 :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ork, Energy and Powe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762120" y="1600200"/>
            <a:ext cx="7772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Done’ is the energy we need to mov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vitational potential energy is the work done lifting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is alway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an object falls, the kinetic energy it gains equals the potential energy it l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762120" y="380880"/>
            <a:ext cx="7986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6 :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ork, Energy and Powe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62120" y="2023920"/>
            <a:ext cx="7772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raw energy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raw Sanke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alculate the efficiency of an energy trans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380880"/>
            <a:ext cx="7986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6 :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ork, Energy and Powe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62120" y="2023920"/>
            <a:ext cx="7772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ompare the advantages of different energy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nderstand the sources of global wa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762120" y="380880"/>
            <a:ext cx="7986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6 :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ork, Energy and Powe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2120" y="1905120"/>
            <a:ext cx="77724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alculate gravitational potential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alculate kinet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power is the rate of transfer of energy, in watts (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alculate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3-26T19:22:02Z</dcterms:modified>
  <cp:revision>22</cp:revision>
  <dc:subject>Physics for You Support File</dc:subject>
  <dc:title>Physics for You</dc:title>
</cp:coreProperties>
</file>