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DC98-655C-4EED-ABC4-D42EDF95AA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58A3-FD03-45C7-94CE-F913196D9C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e the Teacher’s Notes on the firs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0A2-E97F-4652-A3FF-4EF06C56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503-EE9A-4D28-A84E-C675C2B8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347-203F-4714-8F2F-BC2B9C6E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FE4-7981-4B63-8223-73521D90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3448-2A22-46CE-B367-4FBCF126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90B-7C4F-403B-9E72-0A8D5637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864-2A1E-4AD3-863C-74D8DDAD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C6F-83EA-47D1-87A1-480DE68C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626-7A92-49D4-A2EF-4A6C64DC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82A1-0A3E-4178-8077-4526BEE8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991C-D5F1-4C50-92D8-D7AA227A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43B-5305-4272-A812-E203BCCC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DD4F-4F0E-430A-949D-BF4940AEAF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675640" y="522936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838080" y="609480"/>
            <a:ext cx="73915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eacher’s 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re are 3 main sequences in this se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 Sankey Diagram (or Energy Transfer Diagram, ETD) for a torch (see page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06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Physics for You, 5</a:t>
            </a:r>
            <a:r>
              <a:rPr b="1" i="1" lang="en-GB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 edition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). 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is is used to introduce or revise the 4 ideas of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3920" indent="-45720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 meaning of ‘transfer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3920" indent="-45720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nergy Law 1 (the law of conservation of energ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3920" indent="-45720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nergy Law 2 (the law of spreading of energ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3920" indent="-45720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 definition of ‘efficiency’, with calcul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ach is shown one step at a time, as you click your mouse. 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You can talk them through, moving to the next step when you are read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is should help to reduce misconceptions which often arise in this topi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 ETD of a high-efficiency ‘energy-saver’ bulb (see page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07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 ETD for a power station (see page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08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8080" y="5300640"/>
            <a:ext cx="7391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aturally it pays to have a quick practice-run fir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o start the slide-show in Full Screen mode, right-click and select Full Screen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or press the &lt;F5&gt; key (to return to ‘normal view’ press the &lt;Esc&gt; key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4"/>
          <p:cNvGrpSpPr/>
          <p:nvPr/>
        </p:nvGrpSpPr>
        <p:grpSpPr>
          <a:xfrm>
            <a:off x="60480" y="914400"/>
            <a:ext cx="1847160" cy="1557000"/>
            <a:chOff x="60480" y="914400"/>
            <a:chExt cx="1847160" cy="1557000"/>
          </a:xfrm>
        </p:grpSpPr>
        <p:sp>
          <p:nvSpPr>
            <p:cNvPr id="147" name="Text Box 9"/>
            <p:cNvSpPr/>
            <p:nvPr/>
          </p:nvSpPr>
          <p:spPr>
            <a:xfrm>
              <a:off x="60480" y="914400"/>
              <a:ext cx="1806120" cy="155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electrically</a:t>
              </a:r>
              <a:br>
                <a:rPr sz="2400"/>
              </a:b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= 20 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>
              <a:off x="1907640" y="1104840"/>
              <a:ext cx="0" cy="560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45"/>
          <p:cNvGrpSpPr/>
          <p:nvPr/>
        </p:nvGrpSpPr>
        <p:grpSpPr>
          <a:xfrm>
            <a:off x="6362640" y="565200"/>
            <a:ext cx="2781000" cy="1130400"/>
            <a:chOff x="6362640" y="565200"/>
            <a:chExt cx="2781000" cy="1130400"/>
          </a:xfrm>
        </p:grpSpPr>
        <p:sp>
          <p:nvSpPr>
            <p:cNvPr id="150" name="Text Box 13"/>
            <p:cNvSpPr/>
            <p:nvPr/>
          </p:nvSpPr>
          <p:spPr>
            <a:xfrm>
              <a:off x="6516000" y="565200"/>
              <a:ext cx="2627640" cy="113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Useful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lighting the ro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= 5 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4"/>
            <p:cNvSpPr/>
            <p:nvPr/>
          </p:nvSpPr>
          <p:spPr>
            <a:xfrm>
              <a:off x="6362640" y="102888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Group 43"/>
          <p:cNvGrpSpPr/>
          <p:nvPr/>
        </p:nvGrpSpPr>
        <p:grpSpPr>
          <a:xfrm>
            <a:off x="762120" y="3581280"/>
            <a:ext cx="7772400" cy="2514600"/>
            <a:chOff x="762120" y="3581280"/>
            <a:chExt cx="7772400" cy="2514600"/>
          </a:xfrm>
        </p:grpSpPr>
        <p:sp>
          <p:nvSpPr>
            <p:cNvPr id="153" name="Rectangle 16"/>
            <p:cNvSpPr/>
            <p:nvPr/>
          </p:nvSpPr>
          <p:spPr>
            <a:xfrm>
              <a:off x="762120" y="3581280"/>
              <a:ext cx="7772400" cy="2514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17"/>
            <p:cNvSpPr/>
            <p:nvPr/>
          </p:nvSpPr>
          <p:spPr>
            <a:xfrm>
              <a:off x="990720" y="40384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fficien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46"/>
          <p:cNvGrpSpPr/>
          <p:nvPr/>
        </p:nvGrpSpPr>
        <p:grpSpPr>
          <a:xfrm>
            <a:off x="6114600" y="2149560"/>
            <a:ext cx="2819880" cy="1191240"/>
            <a:chOff x="6114600" y="2149560"/>
            <a:chExt cx="2819880" cy="1191240"/>
          </a:xfrm>
        </p:grpSpPr>
        <p:sp>
          <p:nvSpPr>
            <p:cNvPr id="156" name="Text Box 19"/>
            <p:cNvSpPr/>
            <p:nvPr/>
          </p:nvSpPr>
          <p:spPr>
            <a:xfrm>
              <a:off x="6572160" y="2149560"/>
              <a:ext cx="236232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Arial"/>
                </a:rPr>
                <a:t>Energy heating </a:t>
              </a:r>
              <a:br>
                <a:rPr sz="2400"/>
              </a:br>
              <a:r>
                <a:rPr b="0" lang="en-GB" sz="2400" spc="-1" strike="noStrike">
                  <a:solidFill>
                    <a:srgbClr val="cc0000"/>
                  </a:solidFill>
                  <a:latin typeface="Arial"/>
                </a:rPr>
                <a:t>bulb + ro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Arial"/>
                </a:rPr>
                <a:t>=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 flipH="1">
              <a:off x="6114600" y="2286000"/>
              <a:ext cx="381240" cy="5335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21"/>
          <p:cNvSpPr/>
          <p:nvPr/>
        </p:nvSpPr>
        <p:spPr>
          <a:xfrm>
            <a:off x="2590920" y="3962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3276720" y="3809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usefu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energy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3"/>
          <p:cNvSpPr/>
          <p:nvPr/>
        </p:nvSpPr>
        <p:spPr>
          <a:xfrm>
            <a:off x="3429000" y="428616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4"/>
          <p:cNvSpPr/>
          <p:nvPr/>
        </p:nvSpPr>
        <p:spPr>
          <a:xfrm>
            <a:off x="3409920" y="43052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energy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2590920" y="4952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356220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7"/>
          <p:cNvGrpSpPr/>
          <p:nvPr/>
        </p:nvGrpSpPr>
        <p:grpSpPr>
          <a:xfrm>
            <a:off x="3390840" y="5315040"/>
            <a:ext cx="1028520" cy="478800"/>
            <a:chOff x="3390840" y="5315040"/>
            <a:chExt cx="1028520" cy="478800"/>
          </a:xfrm>
        </p:grpSpPr>
        <p:sp>
          <p:nvSpPr>
            <p:cNvPr id="165" name="Line 28"/>
            <p:cNvSpPr/>
            <p:nvPr/>
          </p:nvSpPr>
          <p:spPr>
            <a:xfrm>
              <a:off x="3493800" y="5315040"/>
              <a:ext cx="82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9"/>
            <p:cNvSpPr/>
            <p:nvPr/>
          </p:nvSpPr>
          <p:spPr>
            <a:xfrm>
              <a:off x="3390840" y="5334120"/>
              <a:ext cx="10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20 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30"/>
          <p:cNvSpPr/>
          <p:nvPr/>
        </p:nvSpPr>
        <p:spPr>
          <a:xfrm>
            <a:off x="6781680" y="3886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00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4400640" y="4902120"/>
            <a:ext cx="27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  1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%    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42"/>
          <p:cNvGrpSpPr/>
          <p:nvPr/>
        </p:nvGrpSpPr>
        <p:grpSpPr>
          <a:xfrm>
            <a:off x="6896160" y="4952880"/>
            <a:ext cx="1295280" cy="533160"/>
            <a:chOff x="6896160" y="4952880"/>
            <a:chExt cx="1295280" cy="533160"/>
          </a:xfrm>
        </p:grpSpPr>
        <p:sp>
          <p:nvSpPr>
            <p:cNvPr id="170" name="Text Box 33"/>
            <p:cNvSpPr/>
            <p:nvPr/>
          </p:nvSpPr>
          <p:spPr>
            <a:xfrm>
              <a:off x="6896160" y="49528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25 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34"/>
            <p:cNvSpPr/>
            <p:nvPr/>
          </p:nvSpPr>
          <p:spPr>
            <a:xfrm>
              <a:off x="7086600" y="5486040"/>
              <a:ext cx="838080" cy="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2" name="Picture 39" descr="ETD energyEff Bulb-smaller"/>
          <p:cNvPicPr/>
          <p:nvPr/>
        </p:nvPicPr>
        <p:blipFill>
          <a:blip r:embed="rId1"/>
          <a:stretch/>
        </p:blipFill>
        <p:spPr>
          <a:xfrm>
            <a:off x="2076480" y="-38160"/>
            <a:ext cx="4048200" cy="26082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0"/>
          <p:cNvSpPr/>
          <p:nvPr/>
        </p:nvSpPr>
        <p:spPr>
          <a:xfrm>
            <a:off x="6934320" y="28195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1"/>
          <p:cNvSpPr/>
          <p:nvPr/>
        </p:nvSpPr>
        <p:spPr>
          <a:xfrm>
            <a:off x="6934320" y="2895480"/>
            <a:ext cx="838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5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066680" y="8380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Energy Transfe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066680" y="243828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For a Power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66680" y="4724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pag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GB" sz="2400" spc="-1" strike="noStrike">
                <a:solidFill>
                  <a:srgbClr val="0000ff"/>
                </a:solidFill>
                <a:latin typeface="Arial"/>
              </a:rPr>
              <a:t>Physics for You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tretch/>
        </p:blipFill>
        <p:spPr>
          <a:xfrm>
            <a:off x="8532720" y="495288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PowerStationETD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33354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685800" y="4114800"/>
            <a:ext cx="7772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uch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usefu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nergy is output for each 100 J of fuel energ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efficienc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is power st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838080" y="1981080"/>
            <a:ext cx="73915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Describe the transfer of energy between different s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Draw a Sankey Diagram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(or Energy Transfer Diagram, ET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Calculate a missing number on an E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Calculate the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Swis721 Md BT"/>
              </a:rPr>
              <a:t>See </a:t>
            </a:r>
            <a:r>
              <a:rPr b="0" i="1" lang="en-GB" sz="2800" spc="-1" strike="noStrike">
                <a:solidFill>
                  <a:srgbClr val="3333cc"/>
                </a:solidFill>
                <a:latin typeface="Swis721 Md BT"/>
              </a:rPr>
              <a:t>Physics for You</a:t>
            </a:r>
            <a:r>
              <a:rPr b="0" lang="en-GB" sz="2800" spc="-1" strike="noStrike">
                <a:solidFill>
                  <a:srgbClr val="3333cc"/>
                </a:solidFill>
                <a:latin typeface="Swis721 Md BT"/>
              </a:rPr>
              <a:t>, pages 106 – 1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838080" y="380880"/>
            <a:ext cx="47865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wis721 Md BT"/>
              </a:rPr>
              <a:t>Learning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You should now be able t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990720" y="1143000"/>
            <a:ext cx="64767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Sankey Diagram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lso call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nergy Transfer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838080" y="2176560"/>
            <a:ext cx="739152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2625"/>
              </a:spcBef>
              <a:buClr>
                <a:srgbClr val="ff00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What is an ‘Energy Transfer Diagram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2625"/>
              </a:spcBef>
              <a:buClr>
                <a:srgbClr val="ff00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What is meant by the ‘transfer’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Law 1 and Law 2, about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The meaning of ‘efficiency’, and how to do calculations of effici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838080" y="533520"/>
            <a:ext cx="51055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wis721 Md BT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You should lear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295280" y="1066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Energy Transfe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295280" y="29718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1.   For a to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ETD--just the torch"/>
          <p:cNvPicPr/>
          <p:nvPr/>
        </p:nvPicPr>
        <p:blipFill>
          <a:blip r:embed="rId1"/>
          <a:stretch/>
        </p:blipFill>
        <p:spPr>
          <a:xfrm>
            <a:off x="4876920" y="2666880"/>
            <a:ext cx="2116080" cy="938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295280" y="4724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pag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GB" sz="2400" spc="-1" strike="noStrike">
                <a:solidFill>
                  <a:srgbClr val="0000ff"/>
                </a:solidFill>
                <a:latin typeface="Arial"/>
              </a:rPr>
              <a:t>Physics for You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8604360" y="495288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7"/>
          <p:cNvGrpSpPr/>
          <p:nvPr/>
        </p:nvGrpSpPr>
        <p:grpSpPr>
          <a:xfrm>
            <a:off x="76320" y="-647640"/>
            <a:ext cx="8839080" cy="4991040"/>
            <a:chOff x="76320" y="-647640"/>
            <a:chExt cx="8839080" cy="4991040"/>
          </a:xfrm>
        </p:grpSpPr>
        <p:pic>
          <p:nvPicPr>
            <p:cNvPr id="60" name="Picture 3" descr="ETD + torch"/>
            <p:cNvPicPr/>
            <p:nvPr/>
          </p:nvPicPr>
          <p:blipFill>
            <a:blip r:embed="rId1"/>
            <a:stretch/>
          </p:blipFill>
          <p:spPr>
            <a:xfrm>
              <a:off x="76320" y="-647640"/>
              <a:ext cx="8839080" cy="49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5"/>
            <p:cNvSpPr/>
            <p:nvPr/>
          </p:nvSpPr>
          <p:spPr>
            <a:xfrm>
              <a:off x="2133720" y="-609480"/>
              <a:ext cx="3657600" cy="167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Picture 6" descr="ETD--just the torch"/>
            <p:cNvPicPr/>
            <p:nvPr/>
          </p:nvPicPr>
          <p:blipFill>
            <a:blip r:embed="rId2"/>
            <a:stretch/>
          </p:blipFill>
          <p:spPr>
            <a:xfrm>
              <a:off x="2819520" y="87480"/>
              <a:ext cx="2209680" cy="97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Text Box 8"/>
          <p:cNvSpPr/>
          <p:nvPr/>
        </p:nvSpPr>
        <p:spPr>
          <a:xfrm>
            <a:off x="304920" y="4344840"/>
            <a:ext cx="8534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ergy in the battery is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transferr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bulb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lectricity, and the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bulb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urrounding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nergy is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transferr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urrounding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6948360" y="1127160"/>
            <a:ext cx="187164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ergy light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ro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useful ener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1"/>
          <p:cNvGrpSpPr/>
          <p:nvPr/>
        </p:nvGrpSpPr>
        <p:grpSpPr>
          <a:xfrm>
            <a:off x="-762120" y="-1066680"/>
            <a:ext cx="9906120" cy="5105160"/>
            <a:chOff x="-762120" y="-1066680"/>
            <a:chExt cx="9906120" cy="5105160"/>
          </a:xfrm>
        </p:grpSpPr>
        <p:pic>
          <p:nvPicPr>
            <p:cNvPr id="66" name="Picture 2" descr="ETD + torch"/>
            <p:cNvPicPr/>
            <p:nvPr/>
          </p:nvPicPr>
          <p:blipFill>
            <a:blip r:embed="rId1"/>
            <a:stretch/>
          </p:blipFill>
          <p:spPr>
            <a:xfrm>
              <a:off x="0" y="-1066680"/>
              <a:ext cx="8839080" cy="49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21"/>
            <p:cNvSpPr/>
            <p:nvPr/>
          </p:nvSpPr>
          <p:spPr>
            <a:xfrm>
              <a:off x="-762120" y="457200"/>
              <a:ext cx="243864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6"/>
            <p:cNvSpPr/>
            <p:nvPr/>
          </p:nvSpPr>
          <p:spPr>
            <a:xfrm>
              <a:off x="2209680" y="-1066680"/>
              <a:ext cx="342900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23"/>
            <p:cNvSpPr/>
            <p:nvPr/>
          </p:nvSpPr>
          <p:spPr>
            <a:xfrm>
              <a:off x="6477120" y="2133720"/>
              <a:ext cx="2361960" cy="19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22"/>
            <p:cNvSpPr/>
            <p:nvPr/>
          </p:nvSpPr>
          <p:spPr>
            <a:xfrm>
              <a:off x="6629400" y="0"/>
              <a:ext cx="25146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228600" y="735120"/>
            <a:ext cx="1371600" cy="2494080"/>
            <a:chOff x="228600" y="735120"/>
            <a:chExt cx="1371600" cy="2494080"/>
          </a:xfrm>
        </p:grpSpPr>
        <p:sp>
          <p:nvSpPr>
            <p:cNvPr id="72" name="Text Box 4"/>
            <p:cNvSpPr/>
            <p:nvPr/>
          </p:nvSpPr>
          <p:spPr>
            <a:xfrm>
              <a:off x="228600" y="735120"/>
              <a:ext cx="1371600" cy="249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100 jo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1447920" y="811080"/>
              <a:ext cx="0" cy="1905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Text Box 11"/>
          <p:cNvSpPr/>
          <p:nvPr/>
        </p:nvSpPr>
        <p:spPr>
          <a:xfrm>
            <a:off x="1371600" y="33526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100   =   5  +  9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20"/>
          <p:cNvGrpSpPr/>
          <p:nvPr/>
        </p:nvGrpSpPr>
        <p:grpSpPr>
          <a:xfrm>
            <a:off x="6248160" y="2133720"/>
            <a:ext cx="2590920" cy="1600200"/>
            <a:chOff x="6248160" y="2133720"/>
            <a:chExt cx="2590920" cy="1600200"/>
          </a:xfrm>
        </p:grpSpPr>
        <p:sp>
          <p:nvSpPr>
            <p:cNvPr id="76" name="Rectangle 18"/>
            <p:cNvSpPr/>
            <p:nvPr/>
          </p:nvSpPr>
          <p:spPr>
            <a:xfrm>
              <a:off x="6553080" y="2362320"/>
              <a:ext cx="22860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H="1">
              <a:off x="6248160" y="2133720"/>
              <a:ext cx="1143000" cy="1523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17"/>
            <p:cNvSpPr/>
            <p:nvPr/>
          </p:nvSpPr>
          <p:spPr>
            <a:xfrm>
              <a:off x="7162920" y="2666880"/>
              <a:ext cx="7617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Text Box 8"/>
          <p:cNvSpPr/>
          <p:nvPr/>
        </p:nvSpPr>
        <p:spPr>
          <a:xfrm>
            <a:off x="7162920" y="2759040"/>
            <a:ext cx="1066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95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jo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14"/>
          <p:cNvGrpSpPr/>
          <p:nvPr/>
        </p:nvGrpSpPr>
        <p:grpSpPr>
          <a:xfrm>
            <a:off x="6705720" y="304920"/>
            <a:ext cx="2133360" cy="1381680"/>
            <a:chOff x="6705720" y="304920"/>
            <a:chExt cx="2133360" cy="1381680"/>
          </a:xfrm>
        </p:grpSpPr>
        <p:sp>
          <p:nvSpPr>
            <p:cNvPr id="81" name="Text Box 7"/>
            <p:cNvSpPr/>
            <p:nvPr/>
          </p:nvSpPr>
          <p:spPr>
            <a:xfrm>
              <a:off x="6705720" y="304920"/>
              <a:ext cx="2133360" cy="138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br>
                <a:rPr sz="2400"/>
              </a:b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jo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9"/>
            <p:cNvSpPr/>
            <p:nvPr/>
          </p:nvSpPr>
          <p:spPr>
            <a:xfrm>
              <a:off x="6858000" y="6094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4"/>
          <p:cNvGrpSpPr/>
          <p:nvPr/>
        </p:nvGrpSpPr>
        <p:grpSpPr>
          <a:xfrm>
            <a:off x="1295280" y="4267080"/>
            <a:ext cx="6096240" cy="1676520"/>
            <a:chOff x="1295280" y="4267080"/>
            <a:chExt cx="6096240" cy="1676520"/>
          </a:xfrm>
        </p:grpSpPr>
        <p:sp>
          <p:nvSpPr>
            <p:cNvPr id="84" name="Rectangle 32"/>
            <p:cNvSpPr/>
            <p:nvPr/>
          </p:nvSpPr>
          <p:spPr>
            <a:xfrm>
              <a:off x="1295280" y="4267080"/>
              <a:ext cx="6096240" cy="1676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1371600" y="42670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Law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35"/>
          <p:cNvSpPr/>
          <p:nvPr/>
        </p:nvSpPr>
        <p:spPr>
          <a:xfrm>
            <a:off x="1371600" y="4800600"/>
            <a:ext cx="601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The total amount of energy is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Energy cannot be created or destro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-762120" y="-1066680"/>
            <a:ext cx="9906120" cy="5105160"/>
            <a:chOff x="-762120" y="-1066680"/>
            <a:chExt cx="9906120" cy="5105160"/>
          </a:xfrm>
        </p:grpSpPr>
        <p:pic>
          <p:nvPicPr>
            <p:cNvPr id="88" name="Picture 3" descr="ETD + torch"/>
            <p:cNvPicPr/>
            <p:nvPr/>
          </p:nvPicPr>
          <p:blipFill>
            <a:blip r:embed="rId1"/>
            <a:stretch/>
          </p:blipFill>
          <p:spPr>
            <a:xfrm>
              <a:off x="0" y="-1066680"/>
              <a:ext cx="8839080" cy="49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4"/>
            <p:cNvSpPr/>
            <p:nvPr/>
          </p:nvSpPr>
          <p:spPr>
            <a:xfrm>
              <a:off x="-762120" y="457200"/>
              <a:ext cx="243864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2209680" y="-1066680"/>
              <a:ext cx="342900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6477120" y="2133720"/>
              <a:ext cx="2361960" cy="19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6629400" y="0"/>
              <a:ext cx="25146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27"/>
          <p:cNvGrpSpPr/>
          <p:nvPr/>
        </p:nvGrpSpPr>
        <p:grpSpPr>
          <a:xfrm>
            <a:off x="152280" y="811080"/>
            <a:ext cx="1371600" cy="2188800"/>
            <a:chOff x="152280" y="811080"/>
            <a:chExt cx="1371600" cy="2188800"/>
          </a:xfrm>
        </p:grpSpPr>
        <p:sp>
          <p:nvSpPr>
            <p:cNvPr id="94" name="Text Box 9"/>
            <p:cNvSpPr/>
            <p:nvPr/>
          </p:nvSpPr>
          <p:spPr>
            <a:xfrm>
              <a:off x="152280" y="871560"/>
              <a:ext cx="1371600" cy="21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"/>
                </a:rPr>
                <a:t>100 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1447920" y="811080"/>
              <a:ext cx="0" cy="1905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13"/>
          <p:cNvSpPr/>
          <p:nvPr/>
        </p:nvSpPr>
        <p:spPr>
          <a:xfrm>
            <a:off x="6553080" y="2362320"/>
            <a:ext cx="2286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26"/>
          <p:cNvGrpSpPr/>
          <p:nvPr/>
        </p:nvGrpSpPr>
        <p:grpSpPr>
          <a:xfrm>
            <a:off x="6705720" y="228600"/>
            <a:ext cx="1828800" cy="825480"/>
            <a:chOff x="6705720" y="228600"/>
            <a:chExt cx="1828800" cy="825480"/>
          </a:xfrm>
        </p:grpSpPr>
        <p:sp>
          <p:nvSpPr>
            <p:cNvPr id="98" name="Text Box 18"/>
            <p:cNvSpPr/>
            <p:nvPr/>
          </p:nvSpPr>
          <p:spPr>
            <a:xfrm>
              <a:off x="6705720" y="228600"/>
              <a:ext cx="18288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"/>
                </a:rPr>
                <a:t>5 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9"/>
            <p:cNvSpPr/>
            <p:nvPr/>
          </p:nvSpPr>
          <p:spPr>
            <a:xfrm>
              <a:off x="6858000" y="6094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0"/>
          <p:cNvGrpSpPr/>
          <p:nvPr/>
        </p:nvGrpSpPr>
        <p:grpSpPr>
          <a:xfrm>
            <a:off x="1295280" y="3887640"/>
            <a:ext cx="6629040" cy="2055600"/>
            <a:chOff x="1295280" y="3887640"/>
            <a:chExt cx="6629040" cy="2055600"/>
          </a:xfrm>
        </p:grpSpPr>
        <p:sp>
          <p:nvSpPr>
            <p:cNvPr id="101" name="Rectangle 21"/>
            <p:cNvSpPr/>
            <p:nvPr/>
          </p:nvSpPr>
          <p:spPr>
            <a:xfrm>
              <a:off x="1295280" y="3887640"/>
              <a:ext cx="6629040" cy="2055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2"/>
            <p:cNvSpPr/>
            <p:nvPr/>
          </p:nvSpPr>
          <p:spPr>
            <a:xfrm>
              <a:off x="1378080" y="3887640"/>
              <a:ext cx="265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Law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Text Box 23"/>
          <p:cNvSpPr/>
          <p:nvPr/>
        </p:nvSpPr>
        <p:spPr>
          <a:xfrm>
            <a:off x="1371600" y="44211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 energy transfers, the energy spreads out, to more and more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As it spreads, it becomes </a:t>
            </a:r>
            <a:r>
              <a:rPr b="1" lang="en-GB" sz="2400" spc="-1" strike="noStrike" u="sng">
                <a:solidFill>
                  <a:srgbClr val="cc0000"/>
                </a:solidFill>
                <a:uFillTx/>
                <a:latin typeface="Arial"/>
              </a:rPr>
              <a:t>less useful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to 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28"/>
          <p:cNvGrpSpPr/>
          <p:nvPr/>
        </p:nvGrpSpPr>
        <p:grpSpPr>
          <a:xfrm>
            <a:off x="6248160" y="2133720"/>
            <a:ext cx="2210040" cy="1523880"/>
            <a:chOff x="6248160" y="2133720"/>
            <a:chExt cx="2210040" cy="1523880"/>
          </a:xfrm>
        </p:grpSpPr>
        <p:sp>
          <p:nvSpPr>
            <p:cNvPr id="105" name="Text Box 16"/>
            <p:cNvSpPr/>
            <p:nvPr/>
          </p:nvSpPr>
          <p:spPr>
            <a:xfrm>
              <a:off x="6858000" y="2438280"/>
              <a:ext cx="160020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0000"/>
                  </a:solidFill>
                  <a:latin typeface="Arial"/>
                </a:rPr>
                <a:t>95</a:t>
              </a:r>
              <a:br>
                <a:rPr sz="2400"/>
              </a:br>
              <a:r>
                <a:rPr b="1" lang="en-GB" sz="2400" spc="-1" strike="noStrike">
                  <a:solidFill>
                    <a:srgbClr val="cc0000"/>
                  </a:solidFill>
                  <a:latin typeface="Arial"/>
                </a:rPr>
                <a:t>jo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0000"/>
                  </a:solidFill>
                  <a:latin typeface="Arial"/>
                </a:rPr>
                <a:t>Wasted 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 flipH="1">
              <a:off x="6248160" y="2133720"/>
              <a:ext cx="1143000" cy="15238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-762120" y="-1066680"/>
            <a:ext cx="9906120" cy="5105160"/>
            <a:chOff x="-762120" y="-1066680"/>
            <a:chExt cx="9906120" cy="5105160"/>
          </a:xfrm>
        </p:grpSpPr>
        <p:pic>
          <p:nvPicPr>
            <p:cNvPr id="108" name="Picture 3" descr="ETD + torch"/>
            <p:cNvPicPr/>
            <p:nvPr/>
          </p:nvPicPr>
          <p:blipFill>
            <a:blip r:embed="rId1"/>
            <a:stretch/>
          </p:blipFill>
          <p:spPr>
            <a:xfrm>
              <a:off x="0" y="-1066680"/>
              <a:ext cx="8839080" cy="49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4"/>
            <p:cNvSpPr/>
            <p:nvPr/>
          </p:nvSpPr>
          <p:spPr>
            <a:xfrm>
              <a:off x="-762120" y="457200"/>
              <a:ext cx="243864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5"/>
            <p:cNvSpPr/>
            <p:nvPr/>
          </p:nvSpPr>
          <p:spPr>
            <a:xfrm>
              <a:off x="2209680" y="-1066680"/>
              <a:ext cx="342900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6477120" y="2133720"/>
              <a:ext cx="2361960" cy="190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6629400" y="0"/>
              <a:ext cx="25146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8"/>
          <p:cNvGrpSpPr/>
          <p:nvPr/>
        </p:nvGrpSpPr>
        <p:grpSpPr>
          <a:xfrm>
            <a:off x="152280" y="811080"/>
            <a:ext cx="1371600" cy="2188800"/>
            <a:chOff x="152280" y="811080"/>
            <a:chExt cx="1371600" cy="2188800"/>
          </a:xfrm>
        </p:grpSpPr>
        <p:sp>
          <p:nvSpPr>
            <p:cNvPr id="114" name="Text Box 9"/>
            <p:cNvSpPr/>
            <p:nvPr/>
          </p:nvSpPr>
          <p:spPr>
            <a:xfrm>
              <a:off x="152280" y="871560"/>
              <a:ext cx="1371600" cy="21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100 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0"/>
            <p:cNvSpPr/>
            <p:nvPr/>
          </p:nvSpPr>
          <p:spPr>
            <a:xfrm>
              <a:off x="1447920" y="811080"/>
              <a:ext cx="0" cy="1905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Rectangle 11"/>
          <p:cNvSpPr/>
          <p:nvPr/>
        </p:nvSpPr>
        <p:spPr>
          <a:xfrm>
            <a:off x="6553080" y="2362320"/>
            <a:ext cx="2286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39"/>
          <p:cNvGrpSpPr/>
          <p:nvPr/>
        </p:nvGrpSpPr>
        <p:grpSpPr>
          <a:xfrm>
            <a:off x="6781680" y="209520"/>
            <a:ext cx="1981440" cy="886320"/>
            <a:chOff x="6781680" y="209520"/>
            <a:chExt cx="1981440" cy="886320"/>
          </a:xfrm>
        </p:grpSpPr>
        <p:sp>
          <p:nvSpPr>
            <p:cNvPr id="118" name="Text Box 13"/>
            <p:cNvSpPr/>
            <p:nvPr/>
          </p:nvSpPr>
          <p:spPr>
            <a:xfrm>
              <a:off x="6934320" y="209520"/>
              <a:ext cx="1828800" cy="88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5 J usefu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4"/>
            <p:cNvSpPr/>
            <p:nvPr/>
          </p:nvSpPr>
          <p:spPr>
            <a:xfrm>
              <a:off x="6781680" y="6094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7"/>
          <p:cNvGrpSpPr/>
          <p:nvPr/>
        </p:nvGrpSpPr>
        <p:grpSpPr>
          <a:xfrm>
            <a:off x="838080" y="3733920"/>
            <a:ext cx="7772400" cy="2666880"/>
            <a:chOff x="838080" y="3733920"/>
            <a:chExt cx="7772400" cy="2666880"/>
          </a:xfrm>
        </p:grpSpPr>
        <p:sp>
          <p:nvSpPr>
            <p:cNvPr id="121" name="Rectangle 16"/>
            <p:cNvSpPr/>
            <p:nvPr/>
          </p:nvSpPr>
          <p:spPr>
            <a:xfrm>
              <a:off x="838080" y="3733920"/>
              <a:ext cx="7772400" cy="26668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17"/>
            <p:cNvSpPr/>
            <p:nvPr/>
          </p:nvSpPr>
          <p:spPr>
            <a:xfrm>
              <a:off x="1066680" y="41911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fficien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9"/>
          <p:cNvGrpSpPr/>
          <p:nvPr/>
        </p:nvGrpSpPr>
        <p:grpSpPr>
          <a:xfrm>
            <a:off x="6171840" y="1981080"/>
            <a:ext cx="2210040" cy="1523880"/>
            <a:chOff x="6171840" y="1981080"/>
            <a:chExt cx="2210040" cy="1523880"/>
          </a:xfrm>
        </p:grpSpPr>
        <p:sp>
          <p:nvSpPr>
            <p:cNvPr id="124" name="Text Box 20"/>
            <p:cNvSpPr/>
            <p:nvPr/>
          </p:nvSpPr>
          <p:spPr>
            <a:xfrm>
              <a:off x="6781680" y="2285640"/>
              <a:ext cx="160020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Arial"/>
                </a:rPr>
                <a:t>95</a:t>
              </a:r>
              <a:br>
                <a:rPr sz="2400"/>
              </a:br>
              <a:r>
                <a:rPr b="0" lang="en-GB" sz="2400" spc="-1" strike="noStrike">
                  <a:solidFill>
                    <a:srgbClr val="cc0000"/>
                  </a:solidFill>
                  <a:latin typeface="Arial"/>
                </a:rPr>
                <a:t>jo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0000"/>
                  </a:solidFill>
                  <a:latin typeface="Arial"/>
                </a:rPr>
                <a:t>Wasted 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21"/>
            <p:cNvSpPr/>
            <p:nvPr/>
          </p:nvSpPr>
          <p:spPr>
            <a:xfrm flipH="1">
              <a:off x="6171840" y="1981080"/>
              <a:ext cx="1143000" cy="15238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Text Box 22"/>
          <p:cNvSpPr/>
          <p:nvPr/>
        </p:nvSpPr>
        <p:spPr>
          <a:xfrm>
            <a:off x="2666880" y="41148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3352680" y="3962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usefu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energy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3505320" y="44388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3486240" y="4457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energy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2666880" y="5105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63852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30"/>
          <p:cNvGrpSpPr/>
          <p:nvPr/>
        </p:nvGrpSpPr>
        <p:grpSpPr>
          <a:xfrm>
            <a:off x="3467160" y="5467320"/>
            <a:ext cx="1028160" cy="478800"/>
            <a:chOff x="3467160" y="5467320"/>
            <a:chExt cx="1028160" cy="478800"/>
          </a:xfrm>
        </p:grpSpPr>
        <p:sp>
          <p:nvSpPr>
            <p:cNvPr id="133" name="Line 28"/>
            <p:cNvSpPr/>
            <p:nvPr/>
          </p:nvSpPr>
          <p:spPr>
            <a:xfrm>
              <a:off x="3570120" y="5467320"/>
              <a:ext cx="82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29"/>
            <p:cNvSpPr/>
            <p:nvPr/>
          </p:nvSpPr>
          <p:spPr>
            <a:xfrm>
              <a:off x="3467160" y="548640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100 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Text Box 32"/>
          <p:cNvSpPr/>
          <p:nvPr/>
        </p:nvSpPr>
        <p:spPr>
          <a:xfrm>
            <a:off x="6858000" y="40384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00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4476600" y="5054760"/>
            <a:ext cx="27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  1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%    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36"/>
          <p:cNvGrpSpPr/>
          <p:nvPr/>
        </p:nvGrpSpPr>
        <p:grpSpPr>
          <a:xfrm>
            <a:off x="6934320" y="5029200"/>
            <a:ext cx="1295280" cy="642600"/>
            <a:chOff x="6934320" y="5029200"/>
            <a:chExt cx="1295280" cy="642600"/>
          </a:xfrm>
        </p:grpSpPr>
        <p:sp>
          <p:nvSpPr>
            <p:cNvPr id="138" name="Text Box 34"/>
            <p:cNvSpPr/>
            <p:nvPr/>
          </p:nvSpPr>
          <p:spPr>
            <a:xfrm>
              <a:off x="6934320" y="50292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35"/>
            <p:cNvSpPr/>
            <p:nvPr/>
          </p:nvSpPr>
          <p:spPr>
            <a:xfrm>
              <a:off x="7238880" y="5638680"/>
              <a:ext cx="685800" cy="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Text Box 38"/>
          <p:cNvSpPr/>
          <p:nvPr/>
        </p:nvSpPr>
        <p:spPr>
          <a:xfrm>
            <a:off x="1752480" y="228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orch is not very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066680" y="8380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Energy Transfer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243828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For an energy-saver light bul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5" descr="ETD-energyEff Bulb only"/>
          <p:cNvPicPr/>
          <p:nvPr/>
        </p:nvPicPr>
        <p:blipFill>
          <a:blip r:embed="rId1"/>
          <a:stretch/>
        </p:blipFill>
        <p:spPr>
          <a:xfrm>
            <a:off x="6705720" y="2057400"/>
            <a:ext cx="1600200" cy="1438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1066680" y="4724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pag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GB" sz="2400" spc="-1" strike="noStrike">
                <a:solidFill>
                  <a:srgbClr val="0000ff"/>
                </a:solidFill>
                <a:latin typeface="Arial"/>
              </a:rPr>
              <a:t>Physics for You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2"/>
          <a:stretch/>
        </p:blipFill>
        <p:spPr>
          <a:xfrm>
            <a:off x="8532720" y="499104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6:47:25Z</dcterms:created>
  <dc:creator>Keith Johnson,   keith@timetabler.com   (c)</dc:creator>
  <dc:description/>
  <dc:language>en-US</dc:language>
  <cp:lastModifiedBy>Keith Johnson</cp:lastModifiedBy>
  <dcterms:modified xsi:type="dcterms:W3CDTF">2017-03-26T19:23:41Z</dcterms:modified>
  <cp:revision>239</cp:revision>
  <dc:subject>for Physics for You  CD-ROM</dc:subject>
  <dc:title>Energy Transfer Diagrams</dc:title>
</cp:coreProperties>
</file>